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F7A5-8408-4994-8091-D11DEBA06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F9FA-B8DB-49AC-92E8-F06D76F8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B797-5C3D-42A8-8635-B1BA84BA9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E9F2-80B5-438F-A078-9B513474C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70B7-0697-4DC3-BC73-BD0F34AA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63F1-B069-4C52-BBBD-AA319C53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4822-32E1-4C6B-A428-9F16C480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702F-6D83-4B6C-9289-7FEA6971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BE1D-5C3F-4C2F-8BB7-18592BA2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21A5-7543-4D77-BBFA-FDE8F49F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424B-6C93-4D35-A297-3E89591F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BA2C-52F5-461A-AA6C-60F7D612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15C8-5669-42DB-928E-EA83C9FF0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" Target="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bio_ch9_4759"/>
          <p:cNvPicPr/>
          <p:nvPr/>
        </p:nvPicPr>
        <p:blipFill>
          <a:blip r:embed="rId1"/>
          <a:stretch/>
        </p:blipFill>
        <p:spPr>
          <a:xfrm>
            <a:off x="2286000" y="838080"/>
            <a:ext cx="6200640" cy="41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Aerobic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5333760"/>
            <a:ext cx="44956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9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http://www.mitochondria.us/pages/mitoman.jpg"/>
          <p:cNvPicPr/>
          <p:nvPr/>
        </p:nvPicPr>
        <p:blipFill>
          <a:blip r:embed="rId2"/>
          <a:stretch/>
        </p:blipFill>
        <p:spPr>
          <a:xfrm>
            <a:off x="380880" y="1219320"/>
            <a:ext cx="1716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bio_ch9_4760"/>
          <p:cNvPicPr/>
          <p:nvPr/>
        </p:nvPicPr>
        <p:blipFill>
          <a:blip r:embed="rId1"/>
          <a:stretch/>
        </p:blipFill>
        <p:spPr>
          <a:xfrm>
            <a:off x="304920" y="1905120"/>
            <a:ext cx="5621040" cy="42685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ebs Cycle Out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04920" y="838080"/>
            <a:ext cx="54100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343040" y="380520"/>
            <a:ext cx="43434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UC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 turns of cyc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N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s 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FAD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pair of e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eft Brace 5"/>
          <p:cNvSpPr/>
          <p:nvPr/>
        </p:nvSpPr>
        <p:spPr>
          <a:xfrm>
            <a:off x="6629400" y="350532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914400"/>
              <a:gd name="textAreaBottom" fmla="*/ 9025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5400" y="10800"/>
                  <a:pt x="0" y="10800"/>
                </a:cubicBezTo>
                <a:cubicBezTo>
                  <a:pt x="54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Biology Interfac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9120" y="6915240"/>
            <a:ext cx="151452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38280" y="4971600"/>
            <a:ext cx="7772400" cy="3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image to play the video se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ideo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3013560" y="198288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ebs Cycle, Par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forward arrow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43840" y="6010200"/>
            <a:ext cx="703440" cy="673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back-arrow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32840" y="6010200"/>
            <a:ext cx="703080" cy="673200"/>
          </a:xfrm>
          <a:prstGeom prst="rect">
            <a:avLst/>
          </a:prstGeom>
          <a:ln w="0">
            <a:noFill/>
          </a:ln>
        </p:spPr>
      </p:pic>
      <p:pic>
        <p:nvPicPr>
          <p:cNvPr id="78" name="Chapter 09C.mpg" descr=""/>
          <p:cNvPicPr/>
          <p:nvPr/>
        </p:nvPicPr>
        <p:blipFill>
          <a:blip r:embed="rId5"/>
          <a:stretch/>
        </p:blipFill>
        <p:spPr>
          <a:xfrm>
            <a:off x="582480" y="457200"/>
            <a:ext cx="7723440" cy="5791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2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Biology Interfac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9120" y="6915240"/>
            <a:ext cx="151452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38280" y="4971600"/>
            <a:ext cx="7772400" cy="3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image to play the video se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ide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013560" y="198288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ebs Cycle, Par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forward arrow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43840" y="6010200"/>
            <a:ext cx="703440" cy="673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back-arrow"/>
          <p:cNvPicPr/>
          <p:nvPr/>
        </p:nvPicPr>
        <p:blipFill>
          <a:blip r:embed="rId3"/>
          <a:stretch/>
        </p:blipFill>
        <p:spPr>
          <a:xfrm>
            <a:off x="7332840" y="6010200"/>
            <a:ext cx="703080" cy="673200"/>
          </a:xfrm>
          <a:prstGeom prst="rect">
            <a:avLst/>
          </a:prstGeom>
          <a:ln w="0">
            <a:noFill/>
          </a:ln>
        </p:spPr>
      </p:pic>
      <p:pic>
        <p:nvPicPr>
          <p:cNvPr id="86" name="Chapter 09D.mpg" descr=""/>
          <p:cNvPicPr/>
          <p:nvPr/>
        </p:nvPicPr>
        <p:blipFill>
          <a:blip r:embed="rId4"/>
          <a:stretch/>
        </p:blipFill>
        <p:spPr>
          <a:xfrm>
            <a:off x="582480" y="457200"/>
            <a:ext cx="7799400" cy="5848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8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2" descr="bio_ch9_4761"/>
          <p:cNvPicPr/>
          <p:nvPr/>
        </p:nvPicPr>
        <p:blipFill>
          <a:blip r:embed="rId1"/>
          <a:stretch/>
        </p:blipFill>
        <p:spPr>
          <a:xfrm>
            <a:off x="1386000" y="1792440"/>
            <a:ext cx="6406920" cy="4424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31840"/>
            <a:ext cx="856296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ction 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733400" y="175896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on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444840" y="2017800"/>
            <a:ext cx="2197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 Ion M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819680" y="5667480"/>
            <a:ext cx="146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P P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7147080" y="3397320"/>
            <a:ext cx="168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P synt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5803920" y="2195640"/>
            <a:ext cx="13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380880" y="4419720"/>
            <a:ext cx="15717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br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304920" y="5562720"/>
            <a:ext cx="14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380880" y="2666880"/>
            <a:ext cx="17528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membra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4" descr=""/>
          <p:cNvPicPr/>
          <p:nvPr/>
        </p:nvPicPr>
        <p:blipFill>
          <a:blip r:embed="rId2"/>
          <a:stretch/>
        </p:blipFill>
        <p:spPr>
          <a:xfrm>
            <a:off x="7304040" y="1314360"/>
            <a:ext cx="164484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6"/>
          <p:cNvSpPr/>
          <p:nvPr/>
        </p:nvSpPr>
        <p:spPr>
          <a:xfrm>
            <a:off x="7121520" y="2206800"/>
            <a:ext cx="26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mitochondria"/>
          <p:cNvPicPr/>
          <p:nvPr/>
        </p:nvPicPr>
        <p:blipFill>
          <a:blip r:embed="rId1"/>
          <a:stretch/>
        </p:blipFill>
        <p:spPr>
          <a:xfrm>
            <a:off x="152280" y="5486400"/>
            <a:ext cx="1752840" cy="1241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088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-energy electrons from the Krebs cycle (carried by NADH and FADH2) are used to convert ADP to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igh-energy electrons are passed along a series of proteins embedded in the inner membrane of the mitochond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ukary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karyo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n’t have organelles, so this process occurs directly in the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NADH and FADH2 from Krebs cycle (in matrix) transfer high energy e- to proteins of membr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- are passed from one protein to the next in the chain.  For each pair of e-, H+ ions are pumped out of matrix, across membrane, into intermembrane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hen e- get to the end, an enzyme joins them with H+ ions and 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form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why it’s aerobic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for the chain to work, there must be a molecule at the end to accept the electr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ygen is this final electron acceptor.  The electrons combine with free hydrogens to form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2" descr="bio_ch9_4761"/>
          <p:cNvPicPr/>
          <p:nvPr/>
        </p:nvPicPr>
        <p:blipFill>
          <a:blip r:embed="rId1"/>
          <a:stretch/>
        </p:blipFill>
        <p:spPr>
          <a:xfrm>
            <a:off x="4343400" y="1447920"/>
            <a:ext cx="4343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he H+ that were pumped into intermembrane space begin building up, creating a positive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ikewise, the matrix is negative n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his high concentration of positive charge wants to even out.  The H+ ions will diffuse back across the inner membrane, through ATP synthet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As H+ move through the ATP synthetase protein, it spins, combining ADP and P to form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F:\392\other392\Biology 392\Unit 5 - Chapter 8, 9, 23\electron transport chain.jpg"/>
          <p:cNvPicPr/>
          <p:nvPr/>
        </p:nvPicPr>
        <p:blipFill>
          <a:blip r:embed="rId1"/>
          <a:stretch/>
        </p:blipFill>
        <p:spPr>
          <a:xfrm>
            <a:off x="990720" y="627120"/>
            <a:ext cx="76197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Biology Interfac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9120" y="6915240"/>
            <a:ext cx="151452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38280" y="4971600"/>
            <a:ext cx="7772400" cy="3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image to play the video se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ideo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014640" y="1982880"/>
            <a:ext cx="34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 Transport Chain, Par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forward arrow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43840" y="6010200"/>
            <a:ext cx="703440" cy="673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back-arrow"/>
          <p:cNvPicPr/>
          <p:nvPr/>
        </p:nvPicPr>
        <p:blipFill>
          <a:blip r:embed="rId3"/>
          <a:stretch/>
        </p:blipFill>
        <p:spPr>
          <a:xfrm>
            <a:off x="7332840" y="6010200"/>
            <a:ext cx="703080" cy="673200"/>
          </a:xfrm>
          <a:prstGeom prst="rect">
            <a:avLst/>
          </a:prstGeom>
          <a:ln w="0">
            <a:noFill/>
          </a:ln>
        </p:spPr>
      </p:pic>
      <p:pic>
        <p:nvPicPr>
          <p:cNvPr id="118" name="Chapter 09E.mpg" descr=""/>
          <p:cNvPicPr/>
          <p:nvPr/>
        </p:nvPicPr>
        <p:blipFill>
          <a:blip r:embed="rId4"/>
          <a:stretch/>
        </p:blipFill>
        <p:spPr>
          <a:xfrm>
            <a:off x="480960" y="380880"/>
            <a:ext cx="8129520" cy="609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6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robic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quires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the final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% of the energy from the original glucose is still present in the 2 pyruvic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steps: Glycolysis, Krebs cycle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place in the mitochond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Biology Interfac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9120" y="6915240"/>
            <a:ext cx="151452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38280" y="4971600"/>
            <a:ext cx="7772400" cy="3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image to play the video se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ideo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014640" y="1982880"/>
            <a:ext cx="34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 Transport Chain, Par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forward arrow"/>
          <p:cNvPicPr/>
          <p:nvPr/>
        </p:nvPicPr>
        <p:blipFill>
          <a:blip r:embed="rId2"/>
          <a:stretch/>
        </p:blipFill>
        <p:spPr>
          <a:xfrm>
            <a:off x="8043840" y="6010200"/>
            <a:ext cx="703440" cy="673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back-arrow"/>
          <p:cNvPicPr/>
          <p:nvPr/>
        </p:nvPicPr>
        <p:blipFill>
          <a:blip r:embed="rId3"/>
          <a:stretch/>
        </p:blipFill>
        <p:spPr>
          <a:xfrm>
            <a:off x="7332840" y="6010200"/>
            <a:ext cx="703080" cy="673200"/>
          </a:xfrm>
          <a:prstGeom prst="rect">
            <a:avLst/>
          </a:prstGeom>
          <a:ln w="0">
            <a:noFill/>
          </a:ln>
        </p:spPr>
      </p:pic>
      <p:pic>
        <p:nvPicPr>
          <p:cNvPr id="126" name="Chapter 09F.mpg" descr=""/>
          <p:cNvPicPr/>
          <p:nvPr/>
        </p:nvPicPr>
        <p:blipFill>
          <a:blip r:embed="rId4"/>
          <a:stretch/>
        </p:blipFill>
        <p:spPr>
          <a:xfrm>
            <a:off x="609480" y="762120"/>
            <a:ext cx="8102880" cy="5790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iming>
    <p:tnLst>
      <p:par>
        <p:cTn id="147" dur="indefinite" restart="never" nodeType="tmRoot">
          <p:childTnLst>
            <p:seq>
              <p:cTn id="148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verage: each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pair of e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ong the ETC provides enough energy to conve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b050"/>
                </a:solidFill>
                <a:latin typeface="Baveuse"/>
              </a:rPr>
              <a:t>3 ADP to 3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Baveuse"/>
              </a:rPr>
              <a:t>	</a:t>
            </a:r>
            <a:r>
              <a:rPr b="1" lang="en-US" sz="3200" spc="-1" strike="noStrike">
                <a:solidFill>
                  <a:srgbClr val="00b050"/>
                </a:solidFill>
                <a:latin typeface="Baveuse"/>
              </a:rPr>
              <a:t>	</a:t>
            </a:r>
            <a:r>
              <a:rPr b="1" lang="en-US" sz="3200" spc="-1" strike="noStrike">
                <a:solidFill>
                  <a:srgbClr val="00b050"/>
                </a:solidFill>
                <a:latin typeface="바탕"/>
                <a:ea typeface="바탕"/>
              </a:rPr>
              <a:t>1 NADH </a:t>
            </a:r>
            <a:r>
              <a:rPr b="1" lang="en-US" sz="32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b050"/>
                </a:solidFill>
                <a:latin typeface="바탕"/>
                <a:ea typeface="바탕"/>
              </a:rPr>
              <a:t> 3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b05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b050"/>
                </a:solidFill>
                <a:latin typeface="바탕"/>
                <a:ea typeface="바탕"/>
              </a:rPr>
              <a:t>1 FADH2 </a:t>
            </a:r>
            <a:r>
              <a:rPr b="1" lang="en-US" sz="32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b050"/>
                </a:solidFill>
                <a:latin typeface="바탕"/>
                <a:ea typeface="바탕"/>
              </a:rPr>
              <a:t> 2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otals will depend on whether you’re talking about 1 turn of the Krebs cycle or 2 turns: 1 pyruvic acid or 2 pyruvic acid (1 gluco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2" dur="2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6" dur="2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" dur="2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TAL AT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llular respiration includes 3 steps: glycolysis, Krebs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Glucose molecu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ATP from glyc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4  ATP from Krebs/ET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8X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 ATP 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38% of total original energy in a glucose molecule.  62% is lost as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you get warmer exerc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7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9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ercising St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ores of ATP already in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nough for a few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ctic acid fer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nough for ~90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uilds up lactic acid &amp; oxygen deb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ular respiration (Krebs &amp;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long-term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low release as glycogen stores are broken down (15-20 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fter 20 min, body starts breaking down other stores (like f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1" dur="20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6252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forms use aerobic? anaerobic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2819160"/>
            <a:ext cx="40384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-lif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athon ru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 meter d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ing soc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ing basket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343400" y="304920"/>
            <a:ext cx="44956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EROB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term, slow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ath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cer (8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ketball (8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EROB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stores, used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tic acid fer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-lif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eter d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8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1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cky par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6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+ ligh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6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6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6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+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s do both process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s have chloroplasts &amp; mitochond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chloroplast"/>
          <p:cNvPicPr/>
          <p:nvPr/>
        </p:nvPicPr>
        <p:blipFill>
          <a:blip r:embed="rId1"/>
          <a:stretch/>
        </p:blipFill>
        <p:spPr>
          <a:xfrm>
            <a:off x="4952880" y="4114800"/>
            <a:ext cx="3768840" cy="2590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mitochondria"/>
          <p:cNvPicPr/>
          <p:nvPr/>
        </p:nvPicPr>
        <p:blipFill>
          <a:blip r:embed="rId2"/>
          <a:stretch/>
        </p:blipFill>
        <p:spPr>
          <a:xfrm>
            <a:off x="914400" y="4114800"/>
            <a:ext cx="3657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In vs. Energy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33520" y="1295280"/>
          <a:ext cx="8153280" cy="5257800"/>
        </p:xfrm>
        <a:graphic>
          <a:graphicData uri="http://schemas.openxmlformats.org/drawingml/2006/table">
            <a:tbl>
              <a:tblPr/>
              <a:tblGrid>
                <a:gridCol w="1207800"/>
                <a:gridCol w="3699000"/>
                <a:gridCol w="3246480"/>
              </a:tblGrid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tosynthe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i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Sto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Rel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opla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ochond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n dioxide &amp; 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gar &amp; oxy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gar &amp; oxy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n dioxide &amp; 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5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CO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6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+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6O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6O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CO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6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ener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Diagram 1" descr=""/>
          <p:cNvPicPr/>
          <p:nvPr/>
        </p:nvPicPr>
        <p:blipFill>
          <a:blip r:embed="rId1"/>
          <a:stretch/>
        </p:blipFill>
        <p:spPr>
          <a:xfrm>
            <a:off x="365040" y="682560"/>
            <a:ext cx="8382240" cy="55720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3"/>
          <p:cNvSpPr/>
          <p:nvPr/>
        </p:nvSpPr>
        <p:spPr>
          <a:xfrm rot="19149000">
            <a:off x="2062800" y="129528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 rot="2389800">
            <a:off x="1895040" y="448740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ight Arrow 5"/>
          <p:cNvSpPr/>
          <p:nvPr/>
        </p:nvSpPr>
        <p:spPr>
          <a:xfrm rot="2814000">
            <a:off x="2541960" y="1915560"/>
            <a:ext cx="738000" cy="330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ight Arrow 6"/>
          <p:cNvSpPr/>
          <p:nvPr/>
        </p:nvSpPr>
        <p:spPr>
          <a:xfrm rot="18575400">
            <a:off x="2517840" y="3951000"/>
            <a:ext cx="739800" cy="33012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685800" y="609480"/>
          <a:ext cx="7924680" cy="4810320"/>
        </p:xfrm>
        <a:graphic>
          <a:graphicData uri="http://schemas.openxmlformats.org/drawingml/2006/table">
            <a:tbl>
              <a:tblPr/>
              <a:tblGrid>
                <a:gridCol w="1219320"/>
                <a:gridCol w="838080"/>
                <a:gridCol w="914400"/>
                <a:gridCol w="990720"/>
                <a:gridCol w="990360"/>
                <a:gridCol w="990720"/>
                <a:gridCol w="990720"/>
                <a:gridCol w="9903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D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D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yco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59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eb’s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762120"/>
          <a:ext cx="7924680" cy="4489200"/>
        </p:xfrm>
        <a:graphic>
          <a:graphicData uri="http://schemas.openxmlformats.org/drawingml/2006/table">
            <a:tbl>
              <a:tblPr/>
              <a:tblGrid>
                <a:gridCol w="1219320"/>
                <a:gridCol w="838080"/>
                <a:gridCol w="914400"/>
                <a:gridCol w="990720"/>
                <a:gridCol w="990360"/>
                <a:gridCol w="990720"/>
                <a:gridCol w="990720"/>
                <a:gridCol w="9903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DH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DH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yco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4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eb’s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49" name="TextBox 4"/>
          <p:cNvSpPr/>
          <p:nvPr/>
        </p:nvSpPr>
        <p:spPr>
          <a:xfrm>
            <a:off x="1846080" y="5791320"/>
            <a:ext cx="30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number (Gross numb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mitochondria"/>
          <p:cNvPicPr/>
          <p:nvPr/>
        </p:nvPicPr>
        <p:blipFill>
          <a:blip r:embed="rId1"/>
          <a:stretch/>
        </p:blipFill>
        <p:spPr>
          <a:xfrm>
            <a:off x="228600" y="2286000"/>
            <a:ext cx="4191120" cy="3809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OCHONDR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0912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ly folded inner membrane = crist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quid space inside =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Krebs cycle occur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ETC proteins are in inn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r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H+ ions are pumped ou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matrix into inn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ran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H+ ions then diffuse bac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into matrix through ATPsynt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sl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ruvate (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tic Acid (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120px-Pyruvic-acid-2D-skeletal"/>
          <p:cNvPicPr/>
          <p:nvPr/>
        </p:nvPicPr>
        <p:blipFill>
          <a:blip r:embed="rId1"/>
          <a:stretch/>
        </p:blipFill>
        <p:spPr>
          <a:xfrm>
            <a:off x="1523880" y="2590920"/>
            <a:ext cx="1828800" cy="1676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Skeletal formula of lactic acid"/>
          <p:cNvPicPr/>
          <p:nvPr/>
        </p:nvPicPr>
        <p:blipFill>
          <a:blip r:embed="rId2"/>
          <a:stretch/>
        </p:blipFill>
        <p:spPr>
          <a:xfrm>
            <a:off x="5791320" y="2209680"/>
            <a:ext cx="1828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krebs"/>
          <p:cNvPicPr/>
          <p:nvPr/>
        </p:nvPicPr>
        <p:blipFill>
          <a:blip r:embed="rId1"/>
          <a:stretch/>
        </p:blipFill>
        <p:spPr>
          <a:xfrm>
            <a:off x="155520" y="46080"/>
            <a:ext cx="86076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hty-Tighty Mitochond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Obtain two sheets of paper and a metric ruler. What is the surface area of the pap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l one sheet of paper into a tube lengthwise. What is the surface area of the rolled pap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d the second sheet of paper into a fan. Then, roll the fir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et of paper around the folded paper so it is inside the rolled pap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s happened to the surface area of the inside of the rolled pap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be the value of increasing the surface area of the membrane inside a mitochondr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F:\392\other392\Biology 392\Unit 5 - Chapter 8, 9, 23\Cellular Respiration.jpg"/>
          <p:cNvPicPr/>
          <p:nvPr/>
        </p:nvPicPr>
        <p:blipFill>
          <a:blip r:embed="rId1"/>
          <a:stretch/>
        </p:blipFill>
        <p:spPr>
          <a:xfrm>
            <a:off x="622440" y="730080"/>
            <a:ext cx="7899120" cy="53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80880" y="380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ruvic acid is broken down into 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series of energy-extracting re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F:\392\other392\Biology 392\Unit 5 - Chapter 8, 9, 23\krebs cycle.jpg"/>
          <p:cNvPicPr/>
          <p:nvPr/>
        </p:nvPicPr>
        <p:blipFill>
          <a:blip r:embed="rId1"/>
          <a:stretch/>
        </p:blipFill>
        <p:spPr>
          <a:xfrm>
            <a:off x="380880" y="1447920"/>
            <a:ext cx="8274240" cy="5410080"/>
          </a:xfrm>
          <a:prstGeom prst="rect">
            <a:avLst/>
          </a:prstGeom>
          <a:ln w="0">
            <a:noFill/>
          </a:ln>
        </p:spPr>
      </p:pic>
      <p:sp>
        <p:nvSpPr>
          <p:cNvPr id="53" name="Title 1"/>
          <p:cNvSpPr/>
          <p:nvPr/>
        </p:nvSpPr>
        <p:spPr>
          <a:xfrm rot="1777200">
            <a:off x="5784840" y="1984320"/>
            <a:ext cx="3338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rebs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s of the Krebs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. Pyruvic acid (3C from glycolysis) enter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ochondrion – across 2 membran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3C (pyruvic acid) splits: 1 C becom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is released.  The remain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C combine with coenzyme 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acetyl 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cetyl group (2C) combines with 4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ecule (already in mitochondrion)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citric acid (6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ruvic acid + Coenzyme 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cetyl 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step after glyco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between glycolysis and the cycle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krebs"/>
          <p:cNvPicPr/>
          <p:nvPr/>
        </p:nvPicPr>
        <p:blipFill>
          <a:blip r:embed="rId1"/>
          <a:stretch/>
        </p:blipFill>
        <p:spPr>
          <a:xfrm>
            <a:off x="3505320" y="1066680"/>
            <a:ext cx="5410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ebs Cycle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. Citric acid (6C) loses 1carbon as 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akes a 5-C molecule and NAD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 5-C loses another carbon as 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makes a 4-C molecule, NADH and ATP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his 4-C molecule rearranges again &amp; again, giving off Hydrogens as FAD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NAD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bio_ch9_4760"/>
          <p:cNvPicPr/>
          <p:nvPr/>
        </p:nvPicPr>
        <p:blipFill>
          <a:blip r:embed="rId1"/>
          <a:stretch/>
        </p:blipFill>
        <p:spPr>
          <a:xfrm>
            <a:off x="304920" y="1905120"/>
            <a:ext cx="5621040" cy="42685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0384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ebs Cy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920" y="1600200"/>
            <a:ext cx="5410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8320" y="380520"/>
            <a:ext cx="40384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e continues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4C molecule combines with acetyl CoA to start cyc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e goes around once per molecule of pyruv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it goes around twice per molecule of gluc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0:19:57Z</dcterms:created>
  <dc:creator>Brian and Megan Gallagher</dc:creator>
  <dc:description/>
  <dc:language>en-US</dc:language>
  <cp:lastModifiedBy>MVanElli</cp:lastModifiedBy>
  <dcterms:modified xsi:type="dcterms:W3CDTF">2011-03-08T21:17:25Z</dcterms:modified>
  <cp:revision>124</cp:revision>
  <dc:subject/>
  <dc:title>Cell resp</dc:title>
</cp:coreProperties>
</file>